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94525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C5A26B-602F-462A-8527-6F7F47A0AF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CE652-A990-40DA-BDAD-918FA41F2F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37B24-FF2C-49E7-80B5-CE6334CE3FE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05504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48400" y="198108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6168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05504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48400" y="4130640"/>
            <a:ext cx="2374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6B37E-375F-41A7-B65F-A689A170F6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D29A30-EC2B-497B-B66B-367845DABB8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030E3-F626-40D4-B6D3-DC0F7E1708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4BEF4F-EC3A-418C-BD06-C455B49089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91B72-2C72-425A-BB28-0A4FD5899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61680" y="336240"/>
            <a:ext cx="7373880" cy="627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29C10-E46A-4F62-8E7A-EA76BF018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2498C-1C0C-465F-BDC2-A0B39C3B14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40240" y="413064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4E9A5-07EE-48B4-BE2F-6FD63530A8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40240" y="1981080"/>
            <a:ext cx="359820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61680" y="4130640"/>
            <a:ext cx="7373880" cy="19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1B622-AFBB-4797-90C7-3B1D516429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058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-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0796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810440" indent="-200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ffffff"/>
              </a:buClr>
              <a:buFont typeface="SunSans-Demi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76040" y="289080"/>
            <a:ext cx="920880" cy="40464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1276200" y="0"/>
            <a:ext cx="0" cy="6856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879560" y="6242040"/>
            <a:ext cx="504360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7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January 26, 1999--Ken Arnold Copyright 1999 Sun Microsystems, Inc., all rights reserved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664040" y="6191280"/>
            <a:ext cx="1244520" cy="479520"/>
          </a:xfrm>
          <a:prstGeom prst="rect">
            <a:avLst/>
          </a:prstGeom>
          <a:noFill/>
          <a:ln w="0">
            <a:noFill/>
          </a:ln>
        </p:spPr>
        <p:txBody>
          <a:bodyPr lIns="82800" rIns="82800" tIns="41400" bIns="414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4040"/>
                <a:tab algn="l" pos="1647720"/>
                <a:tab algn="l" pos="2471760"/>
                <a:tab algn="l" pos="3295800"/>
                <a:tab algn="l" pos="4119480"/>
                <a:tab algn="l" pos="4943520"/>
                <a:tab algn="l" pos="5767560"/>
                <a:tab algn="l" pos="6591240"/>
                <a:tab algn="l" pos="7415280"/>
                <a:tab algn="l" pos="8238960"/>
                <a:tab algn="l" pos="9063000"/>
                <a:tab algn="l" pos="9887040"/>
                <a:tab algn="l" pos="10710720"/>
              </a:tabLst>
            </a:pPr>
            <a:fld id="{C2F04420-5FB9-4068-89A7-EF898635CBA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5553000"/>
            <a:ext cx="1738440" cy="1303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512720" y="1931400"/>
            <a:ext cx="7056720" cy="25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1400" rIns="41400" tIns="41400" bIns="414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What is this Jini™</a:t>
            </a:r>
            <a:r>
              <a:rPr b="0" lang="en-US" sz="800" spc="-1" strike="noStrike" baseline="100000">
                <a:solidFill>
                  <a:srgbClr val="ffffff"/>
                </a:solidFill>
                <a:latin typeface="Times New Roman"/>
              </a:rPr>
              <a:t>™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Stuff, Anywa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Ken Arnol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n Microsystems, In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ire Protocols Matter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has to go on the wi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radeoff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clarity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compress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robustness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message coun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xtensibility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efficienc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ease of production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ease of consump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ire Protocols make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Bad Network Standard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erges “what I do” with “how I do it”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They define too much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How capable are the endpoint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ock down tradeoff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nflexib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Interfaces make</a:t>
            </a:r>
            <a:br>
              <a:rPr sz="4900"/>
            </a:b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Good Network Standard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hat I do”: Implementations vary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mplementations can be invented anytim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mplementations can be moved where need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ire protocols can be adapted to the application domai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XML (A Digression)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n the local case, we have learned that object oriented programming is goo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rogramming with data structures has proven to be not so goo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XML is (nice) data structur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hy relearn the lesson on the network?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ini Architecture is Objects on the Wi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s are defined by interfa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mplementations move where they are need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nyone can create a new service using existing stuff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ire protocols are a private matter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urrent Uses/Research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nternal service finding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n extensible internal expansion bu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xternal service publication 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pplication servers, proxy server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Military field information system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service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printing, storage working group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dministration, service interfaces, accessibilit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Resourc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61680" y="1630440"/>
            <a:ext cx="737388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ttp://jini.or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ttp://sun.com/jin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ini-users@java.sun.co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Books: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The Jini Specification,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JavaSpaces Principles, Patterns, and Practices, 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Addison-Wesle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Times New Roman"/>
              </a:rPr>
              <a:t>Core Jini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, Prentice H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http://java.sun.com/docs/books/jini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Aft>
                <a:spcPts val="675"/>
              </a:spcAft>
              <a:buClr>
                <a:srgbClr val="000000"/>
              </a:buClr>
              <a:buFont typeface="Times"/>
              <a:buChar char="–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Jini Series, Addison Wesley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onnec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ou get the source: use i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ou write tools: share th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ou create products: sell them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ou have an itch: scratch i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027160" y="2741040"/>
            <a:ext cx="619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A Completely New Talk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3705840"/>
            <a:ext cx="15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lmos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Goals of Jini</a:t>
            </a:r>
            <a:r>
              <a:rPr b="0" lang="en-US" sz="1900" spc="-1" strike="noStrike" baseline="100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 Architectur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Network plug-and-wor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rase the hardware/software distinc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llow spontaneous networking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Enable a service-based architectu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bove all, to provide the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simplest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system possibl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61680" y="336240"/>
            <a:ext cx="7373880" cy="135252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Java</a:t>
            </a:r>
            <a:r>
              <a:rPr b="0" lang="en-US" sz="1900" spc="-1" strike="noStrike" baseline="100000">
                <a:solidFill>
                  <a:srgbClr val="000000"/>
                </a:solidFill>
                <a:latin typeface="Times New Roman"/>
              </a:rPr>
              <a:t>™</a:t>
            </a: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 Technology Makes It Work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62040" y="1981080"/>
            <a:ext cx="7353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Java virtual machine = Homogeneous Network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Portable object cod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afety through verific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400"/>
              </a:spcBef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A single type system for the network and the implementation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Dynamic environm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Spontaneous Network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61680" y="1805040"/>
            <a:ext cx="7373880" cy="454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Services join federation by discovering Lookup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Registering with Lookup Service = advertising your servic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lients find services by Java programming language typ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de moves from service to client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Code needed to use service is 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dynamically loaded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when needed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Registering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463760" y="1241280"/>
            <a:ext cx="7162560" cy="4407120"/>
            <a:chOff x="1463760" y="1241280"/>
            <a:chExt cx="7162560" cy="4407120"/>
          </a:xfrm>
        </p:grpSpPr>
        <p:sp>
          <p:nvSpPr>
            <p:cNvPr id="54" name=""/>
            <p:cNvSpPr/>
            <p:nvPr/>
          </p:nvSpPr>
          <p:spPr>
            <a:xfrm>
              <a:off x="5400720" y="1762200"/>
              <a:ext cx="3225600" cy="1993680"/>
            </a:xfrm>
            <a:prstGeom prst="ellipse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44640" y="3933720"/>
              <a:ext cx="2819520" cy="1714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56000" y="4302000"/>
              <a:ext cx="1904760" cy="825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ice Proxy Obj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63760" y="3463920"/>
              <a:ext cx="2870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Network Ser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13280" y="1241280"/>
              <a:ext cx="2400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Lookup Servic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V="1">
              <a:off x="4473720" y="3235320"/>
              <a:ext cx="134604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819760" y="2397240"/>
              <a:ext cx="1905120" cy="825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ice Proxy Obj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556000" y="4213080"/>
              <a:ext cx="1904760" cy="88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813280" y="2308320"/>
              <a:ext cx="1905120" cy="88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inding a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3880" y="4264200"/>
            <a:ext cx="3225960" cy="1993680"/>
          </a:xfrm>
          <a:prstGeom prst="ellipse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638680" y="1863720"/>
            <a:ext cx="2819520" cy="171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257800" y="1393920"/>
            <a:ext cx="28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936800" y="3743280"/>
            <a:ext cx="240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up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848040" y="2355840"/>
            <a:ext cx="1790640" cy="2108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43280" y="4898880"/>
            <a:ext cx="190476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Proxy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848040" y="3149640"/>
            <a:ext cx="1790640" cy="2122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43280" y="4809960"/>
            <a:ext cx="1904760" cy="88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5638680" y="2664000"/>
            <a:ext cx="1905120" cy="914400"/>
            <a:chOff x="5638680" y="2664000"/>
            <a:chExt cx="1905120" cy="914400"/>
          </a:xfrm>
        </p:grpSpPr>
        <p:sp>
          <p:nvSpPr>
            <p:cNvPr id="73" name=""/>
            <p:cNvSpPr/>
            <p:nvPr/>
          </p:nvSpPr>
          <p:spPr>
            <a:xfrm>
              <a:off x="5638680" y="2752920"/>
              <a:ext cx="1905120" cy="825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ervice Proxy Objec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38680" y="2664000"/>
              <a:ext cx="1905120" cy="88920"/>
            </a:xfrm>
            <a:prstGeom prst="rect">
              <a:avLst/>
            </a:prstGeom>
            <a:solidFill>
              <a:srgbClr val="00cc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"/>
          <p:cNvSpPr/>
          <p:nvPr/>
        </p:nvSpPr>
        <p:spPr>
          <a:xfrm rot="18618600">
            <a:off x="3712320" y="266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Requ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Using the Servic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978200"/>
            <a:ext cx="2819520" cy="1714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638680" y="2867040"/>
            <a:ext cx="1905120" cy="825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ice Proxy Objec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1508040"/>
            <a:ext cx="28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59120" y="3679920"/>
            <a:ext cx="1917720" cy="12571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01720" y="4390920"/>
            <a:ext cx="2819520" cy="1714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320840" y="3921120"/>
            <a:ext cx="287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Serv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638680" y="2778120"/>
            <a:ext cx="1905120" cy="889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710400" y="2282760"/>
            <a:ext cx="0" cy="495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1561680" y="1981080"/>
            <a:ext cx="7373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Wire protocols define what goes on the wir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850"/>
              </a:spcBef>
              <a:spcAft>
                <a:spcPts val="850"/>
              </a:spcAft>
              <a:buNone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850"/>
              </a:spcBef>
              <a:spcAft>
                <a:spcPts val="850"/>
              </a:spcAft>
              <a:buClr>
                <a:srgbClr val="000000"/>
              </a:buClr>
              <a:buFont typeface="Times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Interfaces define what you do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SansTypewriter"/>
              <a:buChar char="–"/>
              <a:tabLst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SansTypewriter"/>
              </a:rPr>
              <a:t>public void flipSwitch(boolean on)</a:t>
            </a:r>
            <a:endParaRPr b="0" lang="en-US" sz="2000" spc="-1" strike="noStrike">
              <a:solidFill>
                <a:srgbClr val="ffffff"/>
              </a:solidFill>
              <a:latin typeface="SunSans-Dem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1561680" y="653760"/>
            <a:ext cx="7373880" cy="717480"/>
          </a:xfrm>
          <a:prstGeom prst="rect">
            <a:avLst/>
          </a:prstGeom>
          <a:noFill/>
          <a:ln w="0">
            <a:noFill/>
          </a:ln>
        </p:spPr>
        <p:txBody>
          <a:bodyPr lIns="41400" rIns="41400" tIns="41400" bIns="414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ire Protocols </a:t>
            </a:r>
            <a:r>
              <a:rPr b="0" i="1" lang="en-US" sz="4900" spc="-1" strike="noStrike">
                <a:solidFill>
                  <a:srgbClr val="000000"/>
                </a:solidFill>
                <a:latin typeface="Times New Roman"/>
              </a:rPr>
              <a:t>vs.</a:t>
            </a: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 Interfaces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225960" y="3117960"/>
            <a:ext cx="3895560" cy="519120"/>
            <a:chOff x="3225960" y="3117960"/>
            <a:chExt cx="3895560" cy="519120"/>
          </a:xfrm>
        </p:grpSpPr>
        <p:sp>
          <p:nvSpPr>
            <p:cNvPr id="88" name=""/>
            <p:cNvSpPr/>
            <p:nvPr/>
          </p:nvSpPr>
          <p:spPr>
            <a:xfrm>
              <a:off x="3225960" y="3117960"/>
              <a:ext cx="3693960" cy="490680"/>
            </a:xfrm>
            <a:prstGeom prst="rect">
              <a:avLst/>
            </a:prstGeom>
            <a:noFill/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1  17  33  9F  77  ..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702240" y="3117960"/>
              <a:ext cx="0" cy="49068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143240" y="3117960"/>
              <a:ext cx="0" cy="49068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611600" y="3117960"/>
              <a:ext cx="0" cy="49068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097600" y="3117960"/>
              <a:ext cx="0" cy="49068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56280" y="3117960"/>
              <a:ext cx="1065240" cy="51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67400" y="3117960"/>
              <a:ext cx="0" cy="49068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24T11:52:18Z</dcterms:created>
  <dc:creator>David Stevens</dc:creator>
  <dc:description/>
  <dc:language>en-US</dc:language>
  <cp:lastModifiedBy>Ken Arnold</cp:lastModifiedBy>
  <cp:lastPrinted>1999-01-15T22:44:49Z</cp:lastPrinted>
  <dcterms:modified xsi:type="dcterms:W3CDTF">1999-09-20T17:01:55Z</dcterms:modified>
  <cp:revision>15305</cp:revision>
  <dc:subject/>
  <dc:title>No Slide Title</dc:title>
</cp:coreProperties>
</file>